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%D8%A3%D9%85%D9%8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F46-B1D4-465B-B73D-89EEFFA5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95D-064B-4A2A-9A5C-AEF420F5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D07-5083-4BED-B9FA-E482DAA0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607-8EB9-4773-B3D0-D9F712C5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2C6-F8EE-4259-9E7A-B6A59D3E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548-7E72-42F1-BE42-AE76B466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B7A-78D4-455E-8BBD-23210C7F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E6E-EB66-4E10-99D3-1022A19C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134-FE11-416A-B3C3-EBD9E0E2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5A4-496C-480E-9775-7E5E9A30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263-10F4-4086-8D5B-F43B1AEC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9DE-FDF3-4A1D-9F5B-5FE4EAF2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9C6-6573-464E-8FFD-BFFAD80790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571;&#1605;&#1610;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05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كان لأمي عين واحدة... وقد كرهتها... لأنها كانت تسبب لي الإحراج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5320" y="5105520"/>
            <a:ext cx="580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y mom only had one ey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hated her... she was such an embarrass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لم أكن متردداً فيما قلت ولم أفكر بكلامي لأني كنت غاضباً جداً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.</a:t>
            </a: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148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didn't even stop to think for a second about what I had said, because I was full of ange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ffff"/>
                </a:solidFill>
                <a:latin typeface="Arial"/>
              </a:rPr>
              <a:t>ولم أبالي لمشاعرها 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was oblivious to her feeling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3760" y="1371600"/>
            <a:ext cx="826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ff"/>
                </a:solidFill>
                <a:latin typeface="Arial"/>
              </a:rPr>
              <a:t>وأردت مغادرة المكان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962520"/>
            <a:ext cx="556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 wanted out of that hous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درست بجد وحصلتُ على منحة للدراسة في سنغافور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7040" y="4800600"/>
            <a:ext cx="79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So I studied real hard, got a chance to go to Singapore to study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وفعلاً.. ذهبت .. ودرست .. ثم تزوجت .. واشتريت بيتاً .. وأنجبت أولاداً وكنت سعيداً ومرتاحاً في حيات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886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191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, I got married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bought a house of my own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had kids of my own. I was happy with my  lif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وفي يوم من الأيام ..أتت أمي لزيارتي ولم تكن قد رأتني منذ سنوات ولم ترى أحفادها أبدا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495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n one day, my mother came to visit me. She hadn't seen me in years and she didn't even meet her grandchildr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!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قفت على الباب وأخذ أولادي يضحكون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9000" y="4876920"/>
            <a:ext cx="70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When she stood by the door, my children laughed at her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صرخت: كيف تجرأتِ وأتيت لتخيفي اطفالي؟.. </a:t>
            </a: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خرجي حالا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622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screamed at her, "How dare you come to my house and scare my children!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T OUT OF HERE! NOW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!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cc00"/>
                </a:solidFill>
                <a:latin typeface="Arial"/>
              </a:rPr>
              <a:t>أجابت بهدوء: (آسفة .. أخطأتٌ العنوان على ما يبدو).. واختفت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And to this, my mother quietly answered, "Oh, I'm so sorry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 may have gotten the wrong address," and she disappeared out of sigh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وذات يوم وصلتني رسالة من المدرسة تدعوني لجمع الشمل العائل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876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day, a letter regarding a school reunion came to my hou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كانت تعمل طاهية في المدرسة التي أتعلم فيها لتعيل العائل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1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he cooked for students &amp; teachers to support the family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فكذبت على زوجتي وأخبرتها أنني سأذهب في رحلة عمل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495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I lied to my wife that I was going on a business tri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ff"/>
                </a:solidFill>
                <a:latin typeface="Arial"/>
              </a:rPr>
              <a:t>بعد الاجتماع ذهبت الى البيت القديم الذي كنا نعيش فيه, للفضول فقط!!!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191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fter the reunion, I went to the old shack just out of curiosity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!!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3300"/>
                </a:solidFill>
                <a:latin typeface="Arial"/>
              </a:rPr>
              <a:t>أخبرني الجيران أن أمي.... توفي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2670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My neighbors said that she died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لم أذرف ولو دمعة واحدة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did not shed a single tea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!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7f5ec2"/>
                </a:solidFill>
                <a:latin typeface="Arial"/>
              </a:rPr>
              <a:t>قاموا بتسليمي رسالة من أمي 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148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5ec2"/>
                </a:solidFill>
                <a:latin typeface="Arial"/>
              </a:rPr>
              <a:t>They handed me a letter that she had wanted me to have</a:t>
            </a:r>
            <a:r>
              <a:rPr b="1" lang="en-US" sz="2000" spc="-1" strike="noStrike">
                <a:solidFill>
                  <a:srgbClr val="7f5ec2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ابني الحبيب.. لطالما فكرت بك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y dearest son, I think of you all the 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cdad37"/>
                </a:solidFill>
                <a:latin typeface="Arial"/>
              </a:rPr>
              <a:t>آسفة لمجيئي إلى سنغافورة وإخافة أولاد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I'm sorry that I came to Singapore and scared your children</a:t>
            </a: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66"/>
                </a:solidFill>
                <a:latin typeface="Arial"/>
              </a:rPr>
              <a:t>كنت سعيدة جداً عندما سمعتُ أنك سوف تأتي للاجتما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 was so glad when I heard you were coming for the reunion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219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لكني قد لا أستطيع مغادرة السرير لرؤيت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But I may not be able to even get out of bed to see you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7f5ec2"/>
                </a:solidFill>
                <a:latin typeface="Arial"/>
              </a:rPr>
              <a:t>آسفة لأنني سببت لك الإحراج مراتٍ ومرات في حياتك.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5560" y="4267080"/>
            <a:ext cx="90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5ec2"/>
                </a:solidFill>
                <a:latin typeface="Arial"/>
              </a:rPr>
              <a:t>I'm sorry that I was a constant embarrassment to you when you were growing up</a:t>
            </a:r>
            <a:r>
              <a:rPr b="1" lang="en-US" sz="1800" spc="-1" strike="noStrike">
                <a:solidFill>
                  <a:srgbClr val="7f5ec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ذات يوم...في المرحلة الابتدائية  جاءت لتطمئن عَل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was this one day during elementary school where my mom came to say hello to 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هل تعلم... لقد تعرضتَ لحادثٍ عندما كنت صغيراً وقد فقدتَ عين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191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ou see........when you were very little, you got into an accident, and lost your ey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99cc00"/>
                </a:solidFill>
                <a:latin typeface="Arial"/>
              </a:rPr>
              <a:t>وكأي أم, لم استطع أن أتركك تكبر بعينٍ واحدةٍ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s a mother, I couldn't stand watching you having to grow up with one ey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ولِذا... أعطيتكَ عيني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o… I gave you mine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…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cdad37"/>
                </a:solidFill>
                <a:latin typeface="Arial"/>
              </a:rPr>
              <a:t>وكنتُ سعيدة وفخورة جداً لأن ابني يستطيع رؤية العالم بعين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886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I was so proud of my son who was seeing a whole new world for me, in my place, with that eye</a:t>
            </a: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00"/>
                </a:solidFill>
                <a:latin typeface="Arial"/>
              </a:rPr>
              <a:t>.....مع حبي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962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th my love to yo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66"/>
                </a:solidFill>
                <a:latin typeface="Arial"/>
              </a:rPr>
              <a:t>.....أمــــــــــــك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962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Your moth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81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سبحان  الله: إذا كانت هذه رحمة الأم بولدها فكيف برحمة الله سبحانه؟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قول رسول الله صلى الله عليه وسلم في الحدي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عن أبي هريرة رضي الله عنه عن النبي صلى الله عليه وسلم أنه ق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0000"/>
                </a:solidFill>
                <a:latin typeface="Times New Roman"/>
                <a:ea typeface="Diwani Bent"/>
              </a:rPr>
              <a:t>( إن لله مئة رحمة قسم منها رحمة بين جميع الخلائق بها يتراحمون و بها يتعاطفون و بها تعطف الوحش على أولادها وأخر تسعة وتسعين رحمة يرحم بها عباده يوم القيامة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22160"/>
            <a:ext cx="9144000" cy="84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ويقول أيضا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  <a:ea typeface="Diwani Letter"/>
              </a:rPr>
              <a:t> </a:t>
            </a:r>
            <a:r>
              <a:rPr b="0" lang="ar-SY" sz="4800" spc="-1" strike="noStrike">
                <a:solidFill>
                  <a:srgbClr val="000000"/>
                </a:solidFill>
                <a:latin typeface="Arial"/>
                <a:ea typeface="Diwani Letter"/>
              </a:rPr>
              <a:t>( عن عمر بن الخطاب أنه قدم على رسول الله صلى الله عليه وسلم  بسبي فإذا امرأةٌ من السبي تبتغي إذا وجدت صبياً في السبي أخذته فألصقته ببطنها وأرضعته فقال لنا: أترون هذه المرأة طارحةً ولدها في النار؟ قلنا: لا والله – وهي تقدر أن لا تطرحه فقال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Arial"/>
                <a:cs typeface="Diwani Letter"/>
              </a:rPr>
              <a:t>الله أرحم بعباده من هذه بولدها 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8580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Omar Ebnulkhatab said: 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Once upon a time while we had some captives we saw captive a woman taking babies, held them tight and breast fed them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 prophet asked us: Do you think this woman will throw his baby in fire? We said: No if she has the choice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n He said: 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Diwani Bent"/>
              </a:rPr>
              <a:t>Allah is more merciful to his worshiper than her with her sun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Diwani Bent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وكما قال رسول الله صلى الله عليه وسلم عندما سُئ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iwani Bent"/>
              </a:rPr>
              <a:t>يا رسول الله من أحق الناس بحسن صحابتي قال أمك قال ث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iwani Bent"/>
              </a:rPr>
              <a:t>من قال أمك قال ثم من قال أمك قال ثم من قال أبو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صدق رسول الله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76520" y="6172200"/>
            <a:ext cx="6172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حمد الله على نعمة الإسلام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ff"/>
                </a:solidFill>
                <a:latin typeface="Arial"/>
              </a:rPr>
              <a:t>أحسست بالإحراج فعلاً ... كيف فعلت هذا بي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 was so embarrassed.</a:t>
            </a:r>
            <a:br>
              <a:rPr sz="2000"/>
            </a:b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How could she do this to m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?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9528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 prophet (sall-Allahu alayhi wassallam) Told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Arial Unicode MS"/>
              </a:rPr>
              <a:t>us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 that we must obey Allah and His messenger at all times but after that Comes your mother then your mother then Your mother then your 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520" y="6172200"/>
            <a:ext cx="6172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s Allah we are Muslim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تجاهلتها, ورميتها بنظرة مليئة بالكر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 ignored her, threw her a hateful look and ran ou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وفي اليوم التالي قال أحد التلامذة ... أمك  </a:t>
            </a:r>
            <a:br>
              <a:rPr sz="4400"/>
            </a:b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بعين واحده ... أوووو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419720"/>
            <a:ext cx="8915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next day at school one of my classmates said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"EEEE, your mom only has one ey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be0e3"/>
                </a:solidFill>
                <a:latin typeface="Arial"/>
              </a:rPr>
              <a:t>وحينها تمنيت أن أدفن نفسي </a:t>
            </a:r>
            <a:br>
              <a:rPr sz="4400"/>
            </a:br>
            <a:r>
              <a:rPr b="1" lang="ar-SY" sz="4400" spc="-1" strike="noStrike">
                <a:solidFill>
                  <a:srgbClr val="bbe0e3"/>
                </a:solidFill>
                <a:latin typeface="Arial"/>
              </a:rPr>
              <a:t>وأن تختفي امي من حيات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76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 wanted to bury myself.</a:t>
            </a:r>
            <a:br>
              <a:rPr sz="2000"/>
            </a:b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 also wanted my mom to just disappear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33"/>
                </a:solidFill>
                <a:latin typeface="Arial"/>
              </a:rPr>
              <a:t>في اليوم التالي واجهتها :</a:t>
            </a:r>
            <a:br>
              <a:rPr sz="4400"/>
            </a:br>
            <a:r>
              <a:rPr b="1" lang="ar-SY" sz="4400" spc="-1" strike="noStrike">
                <a:solidFill>
                  <a:srgbClr val="66ff33"/>
                </a:solidFill>
                <a:latin typeface="Arial"/>
              </a:rPr>
              <a:t>لقد جعلتِ مني أضحوكة, لِم لا تموتين ؟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4197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o I confronted her that day and said, " If you're only gonna make me a laughing stock, why don't you just die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?!!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28800" y="1219320"/>
            <a:ext cx="501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600" spc="-1" strike="noStrike">
                <a:solidFill>
                  <a:srgbClr val="99cc00"/>
                </a:solidFill>
                <a:latin typeface="Arial"/>
              </a:rPr>
              <a:t>ولكنها لم تُجب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y mom did not respo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9:08:13Z</dcterms:created>
  <dc:creator>mea</dc:creator>
  <dc:description/>
  <dc:language>en-US</dc:language>
  <cp:lastModifiedBy>building systems</cp:lastModifiedBy>
  <dcterms:modified xsi:type="dcterms:W3CDTF">2006-06-13T22:47:58Z</dcterms:modified>
  <cp:revision>20</cp:revision>
  <dc:subject/>
  <dc:title>My mom only had one eye.  I hated her... she was such an embarrassment. </dc:title>
</cp:coreProperties>
</file>